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E031-1BCF-465A-941C-1CCFC1BA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14E1-3057-44E7-95CC-B8548043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9BBB-412F-4E7B-89DB-BCCC0451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8184-198D-4E81-A667-4891DB11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3CBD-3C97-49FE-96BA-0CFB595F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A84D-9228-4558-8FB3-83909170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B08A-D2AE-43A3-BD7C-EABDAB13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4E8A-AC73-434F-B8FE-0755953E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F93A-7B91-463E-82B2-A456223C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A491-794B-4D74-8E8E-889EAFA1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CFEA-429F-4100-A1C9-E7871574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2DAA-5DBF-421D-9DC6-C7E0EC3E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46EF-3865-4954-B292-5F38AFAA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B8D3-4BE1-4DEA-9230-28F7B912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E7AC-0AB5-49A1-BDA0-B86E797C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9C08-3614-4039-A98B-0D3DD1BD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409B-8B3D-45FA-A39F-70E580EA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F4F1-559F-46CB-A68A-BE9FE335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63F3-0D7F-42AE-BB43-04B393E6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D6EE-B137-414F-8499-EB4A955F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9702-217C-4F28-8293-50856EC6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A237-EA93-4CC7-8A88-8D3B4F19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373E-ECFA-43F0-91F2-FFFE7C06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CB90-EFD2-4EEE-8405-7C74BA30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67F2-C24E-4B3E-9E80-32DB92FDABC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9D0D-46C4-4820-9861-A3FAB7A95B4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状态转移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绘制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习三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状态继电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及其步进指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T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会运用状态编程法编制简单顺序控制应用程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编程软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状态编程法中的一般应用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45160" y="835560"/>
            <a:ext cx="34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编制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SF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图的注意事项和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55720" y="1630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40" y="1335960"/>
            <a:ext cx="54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的规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19800" y="1699200"/>
            <a:ext cx="26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转移图中的流程不能交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017800" y="2055960"/>
            <a:ext cx="590544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4360" y="3284640"/>
            <a:ext cx="8459640" cy="3152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45160" y="835560"/>
            <a:ext cx="34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编制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SF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图的注意事项和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55720" y="1630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1335960"/>
            <a:ext cx="54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的规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4520" y="1920600"/>
            <a:ext cx="85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若要对某个区间状态进行复位，可用区间复位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ZRS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5(a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处理；若要使某个状态中的输出禁止，可按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5(b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听示方法处理；若要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全部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开，可用特殊辅助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成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5(c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路，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续进行程序运算，但所有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都断开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11440" y="6460200"/>
            <a:ext cx="32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5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区域复位和输出禁止的处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6895" t="0" r="5172" b="0"/>
          <a:stretch/>
        </p:blipFill>
        <p:spPr>
          <a:xfrm>
            <a:off x="4908600" y="0"/>
            <a:ext cx="429084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15386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择性分支与汇合及其编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43800" y="8355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、多流程步进顺序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24360" y="259920"/>
            <a:ext cx="560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2827440"/>
            <a:ext cx="4896000" cy="40305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235520" y="1943640"/>
            <a:ext cx="25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择性分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的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择性分支、汇合的编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择性分支对应的步进梯形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66960" y="1559520"/>
            <a:ext cx="35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并行分支与汇合的编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66240" y="7578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、多流程步进顺序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32920" y="98280"/>
            <a:ext cx="56055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5320" y="1989720"/>
            <a:ext cx="31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行分支状态转移图及其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行分支状态转移图的编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行分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对应的状态梯形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84360" y="3040200"/>
            <a:ext cx="4321080" cy="38178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879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5280" y="1695600"/>
            <a:ext cx="43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带式运输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原理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F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283356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rcRect l="0" t="0" r="17564" b="0"/>
          <a:stretch/>
        </p:blipFill>
        <p:spPr>
          <a:xfrm>
            <a:off x="5541840" y="0"/>
            <a:ext cx="360216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046880" y="3849120"/>
            <a:ext cx="6678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、多流程步进顺序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0" y="-374400"/>
            <a:ext cx="667800" cy="76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Arial"/>
              </a:rPr>
              <a:t>模块五   步进指令及状态编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92360" y="1911960"/>
            <a:ext cx="431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带式运输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梯形图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63378" t="45631" r="8455" b="0"/>
          <a:stretch/>
        </p:blipFill>
        <p:spPr>
          <a:xfrm>
            <a:off x="5940360" y="404640"/>
            <a:ext cx="2851200" cy="6453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rcRect l="63378" t="0" r="0" b="53739"/>
          <a:stretch/>
        </p:blipFill>
        <p:spPr>
          <a:xfrm>
            <a:off x="2479680" y="1700280"/>
            <a:ext cx="3483000" cy="51577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56055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</a:t>
            </a:r>
            <a:br>
              <a:rPr sz="3200"/>
            </a:b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9240" y="3849120"/>
            <a:ext cx="6678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、多流程步进顺序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70600" y="619920"/>
            <a:ext cx="606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四、利用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GX Developer V8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软件编制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皮带运输机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顺控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rcRect l="0" t="0" r="50694" b="8643"/>
          <a:stretch/>
        </p:blipFill>
        <p:spPr>
          <a:xfrm>
            <a:off x="0" y="1025640"/>
            <a:ext cx="1835280" cy="5832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rcRect l="0" t="49604" r="0" b="0"/>
          <a:stretch/>
        </p:blipFill>
        <p:spPr>
          <a:xfrm>
            <a:off x="5526000" y="1303200"/>
            <a:ext cx="3618000" cy="5554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rcRect l="0" t="0" r="0" b="49434"/>
          <a:stretch/>
        </p:blipFill>
        <p:spPr>
          <a:xfrm>
            <a:off x="1914480" y="1341360"/>
            <a:ext cx="3583080" cy="5516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560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41600" y="1557000"/>
            <a:ext cx="383832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台电机三种运行模式的控制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042920" y="2108160"/>
            <a:ext cx="7632720" cy="47498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-6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1760" y="206136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1760" y="484920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6520" y="7236720"/>
            <a:ext cx="28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0" t="0" r="44908" b="82144"/>
          <a:stretch/>
        </p:blipFill>
        <p:spPr>
          <a:xfrm>
            <a:off x="900000" y="0"/>
            <a:ext cx="4032360" cy="18604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rcRect l="0" t="17860" r="44908" b="34471"/>
          <a:stretch/>
        </p:blipFill>
        <p:spPr>
          <a:xfrm>
            <a:off x="900000" y="1844640"/>
            <a:ext cx="4071960" cy="5013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rcRect l="0" t="65508" r="59552" b="0"/>
          <a:stretch/>
        </p:blipFill>
        <p:spPr>
          <a:xfrm>
            <a:off x="5435640" y="1700280"/>
            <a:ext cx="3122640" cy="37893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859280" y="174240"/>
            <a:ext cx="42847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</a:t>
            </a:r>
            <a:br>
              <a:rPr sz="3600"/>
            </a:b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 rot="10800000">
            <a:off x="5724360" y="5731920"/>
            <a:ext cx="40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34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演示电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转移图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-6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1760" y="206136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31760" y="484920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6520" y="7236720"/>
            <a:ext cx="28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859280" y="174240"/>
            <a:ext cx="42847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</a:t>
            </a:r>
            <a:br>
              <a:rPr sz="3600"/>
            </a:b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rcRect l="64001" t="0" r="0" b="43861"/>
          <a:stretch/>
        </p:blipFill>
        <p:spPr>
          <a:xfrm>
            <a:off x="1979640" y="0"/>
            <a:ext cx="3090960" cy="6858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rcRect l="64001" t="55966" r="0" b="0"/>
          <a:stretch/>
        </p:blipFill>
        <p:spPr>
          <a:xfrm>
            <a:off x="5435640" y="1557360"/>
            <a:ext cx="3044880" cy="53006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826920" y="2500560"/>
            <a:ext cx="11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35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演示电路步进梯形图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63200" y="1483560"/>
            <a:ext cx="41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步进指令与状态转移图表示方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09480" y="2059560"/>
            <a:ext cx="26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步进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8388360" cy="1363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411280" y="4005360"/>
            <a:ext cx="6264360" cy="2541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077840" y="4867920"/>
            <a:ext cx="94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进指令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示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17040" y="170028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训内容—专用钻床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控制系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59920" y="242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87280" y="3541680"/>
            <a:ext cx="670896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多流程步进顺序控制状态转移图的编制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学会运用专用软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进行状态法编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02560" y="1556280"/>
            <a:ext cx="445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专用钻床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输入输出继电器的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I/O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接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632720" cy="41562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1840" y="764280"/>
            <a:ext cx="292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专用钻床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参考状态转移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900000" y="1608120"/>
            <a:ext cx="5400720" cy="52498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rcRect l="0" t="0" r="74209" b="63047"/>
          <a:stretch/>
        </p:blipFill>
        <p:spPr>
          <a:xfrm>
            <a:off x="7020000" y="1413000"/>
            <a:ext cx="1701720" cy="5445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427640" y="1773360"/>
            <a:ext cx="1439640" cy="934920"/>
          </a:xfrm>
          <a:prstGeom prst="wedgeRoundRectCallout">
            <a:avLst>
              <a:gd name="adj1" fmla="val 4023"/>
              <a:gd name="adj2" fmla="val 74449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参考编程手册绘制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76720" y="4653000"/>
            <a:ext cx="1368360" cy="1224000"/>
          </a:xfrm>
          <a:prstGeom prst="wedgeRoundRectCallout">
            <a:avLst>
              <a:gd name="adj1" fmla="val 87240"/>
              <a:gd name="adj2" fmla="val 4083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软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辑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68280" y="764280"/>
            <a:ext cx="46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参考编程手册绘制的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专用钻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梯形图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rcRect l="0" t="0" r="0" b="48112"/>
          <a:stretch/>
        </p:blipFill>
        <p:spPr>
          <a:xfrm>
            <a:off x="1332000" y="1413000"/>
            <a:ext cx="2984400" cy="5445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rcRect l="0" t="51892" r="0" b="0"/>
          <a:stretch/>
        </p:blipFill>
        <p:spPr>
          <a:xfrm>
            <a:off x="4284720" y="1484280"/>
            <a:ext cx="31766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87200" y="764280"/>
            <a:ext cx="678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用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GX Developer V8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编辑的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专用钻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梯形图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rcRect l="0" t="47637" r="27073" b="649"/>
          <a:stretch/>
        </p:blipFill>
        <p:spPr>
          <a:xfrm>
            <a:off x="5219640" y="1409760"/>
            <a:ext cx="3414600" cy="54482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rcRect l="0" t="0" r="27073" b="52261"/>
          <a:stretch/>
        </p:blipFill>
        <p:spPr>
          <a:xfrm>
            <a:off x="1042920" y="1628640"/>
            <a:ext cx="35496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916360" y="16279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55640" y="3860640"/>
            <a:ext cx="3456000" cy="20671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859280" y="3860640"/>
            <a:ext cx="3024360" cy="20466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2548440" y="2186640"/>
            <a:ext cx="187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画出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波形对应的顺序功能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55640" y="2817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小车在初始状态时停在中间，限位开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按下起动按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小车按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的顺序运动，最后返回并停在初始位置。画出控制系统的顺序功能图，并编写梯形图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48920" y="6020640"/>
            <a:ext cx="25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2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图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03880" y="6021360"/>
            <a:ext cx="19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-4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波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8135640" cy="31971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987880" y="2132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47080" y="1556280"/>
            <a:ext cx="31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令编写出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状态转移图的梯形图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11280" y="5299560"/>
            <a:ext cx="828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                                         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3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59280" y="155628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39640" y="2284920"/>
            <a:ext cx="829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的两条书室运输带顺序相连，按下起动按钮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号运输带开始运行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号运输带自动起动。停机的顺序与起动的顺序刚好相反，间隔时间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画出状态转移图，编写出梯形图程序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复件 复件 1" descr=""/>
          <p:cNvPicPr/>
          <p:nvPr/>
        </p:nvPicPr>
        <p:blipFill>
          <a:blip r:embed="rId1"/>
          <a:stretch/>
        </p:blipFill>
        <p:spPr>
          <a:xfrm>
            <a:off x="2627280" y="3068640"/>
            <a:ext cx="4392720" cy="19065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708360" y="5157000"/>
            <a:ext cx="194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4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63200" y="1483560"/>
            <a:ext cx="41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步进指令与状态转移图表示方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5920" y="2059560"/>
            <a:ext cx="22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步进指令的使用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32000" y="2492280"/>
            <a:ext cx="3240000" cy="1649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9640" y="4419720"/>
            <a:ext cx="8604360" cy="2092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724360" y="2421000"/>
            <a:ext cx="2376720" cy="1824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34680" y="4220280"/>
            <a:ext cx="28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-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栈操作指令在状态内的正确使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38760" y="421416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-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线圈的互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70520" y="6490440"/>
            <a:ext cx="25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-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态内没有触点线圈的编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31200" y="1483560"/>
            <a:ext cx="41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步进指令与状态转移图表示方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2059560"/>
            <a:ext cx="51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状态转移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SFC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建立及其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8780" t="0" r="5841" b="0"/>
          <a:stretch/>
        </p:blipFill>
        <p:spPr>
          <a:xfrm>
            <a:off x="5732640" y="1989000"/>
            <a:ext cx="3411360" cy="1920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292720" y="4032360"/>
            <a:ext cx="3456000" cy="2485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390720" y="3855240"/>
            <a:ext cx="21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-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台车自动往返示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20000" y="6490440"/>
            <a:ext cx="23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-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台车自动往返顺序控制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3902760"/>
            <a:ext cx="46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下启动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电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正转，台车前进，碰到限位开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电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反转，台车后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台车后退碰到限位开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Q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台车电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停转，台车停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第二次前进，碰到限位开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Q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再次后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后退再次碰到限位开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Q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台车停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89800" y="278028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台车自动往返控制要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48360" y="0"/>
            <a:ext cx="373212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90760" y="1556280"/>
            <a:ext cx="243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步进指令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状态转移图表示方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459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模块五   步进指令</a:t>
            </a:r>
            <a:br>
              <a:rPr sz="2800"/>
            </a:b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2635920"/>
            <a:ext cx="517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状态转移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SFC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建立及其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38800" y="3140640"/>
            <a:ext cx="26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台车自动往返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SFC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及特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240440"/>
            <a:ext cx="493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)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复杂的任务或过程分解成了若干个工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相对某一个具体的工序来说，控制任务实现了简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只要弄清各工序成立的条件、工序转移的条件和转移的方向．就可以进行这类图形的设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4)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容易理解，可读性强，能清晰地反映全部控制工艺过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63200" y="1483560"/>
            <a:ext cx="41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步进指令与状态转移图表示方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43280" y="1208160"/>
            <a:ext cx="6300720" cy="5649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2819520" cy="5178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124160" y="76392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台车自动往返控制状态转移图、步进梯形图、指令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45160" y="835560"/>
            <a:ext cx="34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编制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SF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图的注意事项和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55720" y="1630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1737360"/>
            <a:ext cx="3952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编程时必须使用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初始状态的软元件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程顺序为先驱动，再转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使用多重（双线圈）输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负载的驱动、状态转移条件可能为多个元件的逻辑组合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" y="935280"/>
            <a:ext cx="54612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的注意事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4356000" cy="2235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9640" y="3789360"/>
            <a:ext cx="6300720" cy="2476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877080" y="4005360"/>
            <a:ext cx="197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顺序状态转移用置位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7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之间不能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6156360"/>
            <a:ext cx="81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8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初始状态可由其他状态驱动，但运行开始必须用其他方法预先做好驱动，否则状态流程不可能向下进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69960" y="193248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若向上转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称重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向非相连的下面转移或向其他流程状态转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称跳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称为顺序不连续转移，顺序不连续转移的状态不能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要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进行状态转移，并要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中用“”符号表示转移目标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45160" y="835560"/>
            <a:ext cx="34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编制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SF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图的注意事项和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55720" y="1630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40" y="1335960"/>
            <a:ext cx="54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的规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8243640" cy="3441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901600" y="6091920"/>
            <a:ext cx="34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1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连续转移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中的表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6264360" cy="3014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42920" y="202536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流程中要表示状态的自复位处理时，要用“”符号表示，自复位状态在程序中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表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45160" y="835560"/>
            <a:ext cx="34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编制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SF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图的注意事项和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55720" y="1630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40" y="1335960"/>
            <a:ext cx="54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的规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3527280" cy="2173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084720" y="4149720"/>
            <a:ext cx="26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)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中的转移条件不能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P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R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P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。应按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3(b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确定转移条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07T15:01:34Z</dcterms:modified>
  <cp:revision>114</cp:revision>
  <dc:subject/>
  <dc:title>模块二  S7-200系列PLC的基本结构 </dc:title>
</cp:coreProperties>
</file>